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5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1.wmf" ContentType="image/x-wmf"/>
  <Override PartName="/ppt/media/image55.png" ContentType="image/png"/>
  <Override PartName="/ppt/media/image12.wmf" ContentType="image/x-wmf"/>
  <Override PartName="/ppt/media/image54.png" ContentType="image/png"/>
  <Override PartName="/ppt/media/image11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48.jpeg" ContentType="image/jpeg"/>
  <Override PartName="/ppt/media/image78.png" ContentType="image/png"/>
  <Override PartName="/ppt/media/image50.wmf" ContentType="image/x-wmf"/>
  <Override PartName="/ppt/media/image28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3.png" ContentType="image/png"/>
  <Override PartName="/ppt/media/image15.png" ContentType="image/png"/>
  <Override PartName="/ppt/media/image80.png" ContentType="image/png"/>
  <Override PartName="/ppt/media/image8.png" ContentType="image/png"/>
  <Override PartName="/ppt/media/image38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58.wmf" ContentType="image/x-wmf"/>
  <Override PartName="/ppt/media/image24.png" ContentType="image/png"/>
  <Override PartName="/ppt/media/image61.png" ContentType="image/png"/>
  <Override PartName="/ppt/media/image59.wmf" ContentType="image/x-wmf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30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57.wmf" ContentType="image/x-wmf"/>
  <Override PartName="/ppt/media/image74.png" ContentType="image/png"/>
  <Override PartName="/ppt/media/image73.png" ContentType="image/png"/>
  <Override PartName="/ppt/media/image72.png" ContentType="image/png"/>
  <Override PartName="/ppt/media/image3.wmf" ContentType="image/x-wmf"/>
  <Override PartName="/ppt/media/image71.png" ContentType="image/png"/>
  <Override PartName="/ppt/media/image2.wmf" ContentType="image/x-wmf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6.png" ContentType="image/png"/>
  <Override PartName="/ppt/media/image1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27.png" ContentType="image/png"/>
  <Override PartName="/ppt/media/image9.png" ContentType="image/png"/>
  <Override PartName="/ppt/media/image39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51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3257640" y="510840"/>
            <a:ext cx="3395520" cy="25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319040" y="3227040"/>
            <a:ext cx="7267680" cy="305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2BAA45-3C49-46AF-84B6-37B6C2B2F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9432F7-E019-4EA6-BA01-0468D3DE3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7257B97-A040-458E-97D8-D40940EBF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537889-84B3-4418-BEC2-E6855D6B78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C2508A3-CDD9-4195-8E87-08BB5B6F33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A49A3F-A542-4BDD-B4A9-8A890EAC92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26F574-ADF4-4C5E-AF3E-B103147DE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5C87323-AD2F-4A67-9BF7-5321227C50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B481A8-4AE2-419B-A4BD-0C6396970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E8D4E90-3CBE-48F3-87D0-6A9A1FC5EF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CFFF5B-E3A5-4D55-B29D-6018D12B3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857CD04-8206-4563-8D73-8F674A4BE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4122BD-7656-4D78-B28E-9E640B32C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D581B1C-66B3-4393-9168-013739D468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7A936C-2E09-49E5-8BBB-3D195559D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C7DC8DA-0674-4E43-9AF5-42DF5C5B21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245-0ABA-468D-8867-DE9194E5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4C3-E7DA-409E-BAD3-AD6E58AD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03E-ACF7-445A-910A-A1E5FF17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386-DE86-42A0-A2F2-3A9061A5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5BD0-F28E-42A1-8240-51530754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5598-315F-426D-8B54-080ADB3E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8A31-6AA6-4EE8-80C5-408F5DCE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B45B-379B-4257-A154-A531A463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F035-2DB1-495F-949B-1FDEB252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A294-B943-4792-8567-1CA54679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5937-DE12-4B3F-B257-124162C6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D5C-C50D-49D2-A95A-C30CC44A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9B19-839D-496F-9075-058E0F23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6055-DC06-441A-BE75-6A96D8CB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37A8-076F-47CE-A559-888E537F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22E7-21F5-45D5-8340-AF2815F2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2D26-5ECA-40D0-B1D9-3DDE1E31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AA8-C991-4C4C-BF60-84E0220E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223-D74B-46BA-8480-44F810CC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AB1-5C27-493E-8F51-370B0B16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CB4-56B7-4FFB-BC66-7983F820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809-DA31-4BF9-97DA-B73CCDCD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2E9-B8B8-401E-A69C-D11926BF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743-BA2F-49F2-BAA7-20399D14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44600" y="6276960"/>
            <a:ext cx="491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95120" y="6286680"/>
            <a:ext cx="125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7985-E862-4EED-8330-B41737F377E6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5120" y="6286680"/>
            <a:ext cx="6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293A-AA5E-48C4-837A-8BA0CD2CFFA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50680"/>
            <a:ext cx="7678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46DA-DFCE-484C-B63E-ABBCADB5741F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760" y="66438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AC2A-7BE1-413D-80A3-8BA3E63D4D19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9.png"/><Relationship Id="rId3" Type="http://schemas.openxmlformats.org/officeDocument/2006/relationships/image" Target="../media/image44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5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4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0800" y="1865880"/>
            <a:ext cx="8615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Verdana"/>
              </a:rPr>
              <a:t>Probabilistic Robotics</a:t>
            </a:r>
            <a:endParaRPr b="1" lang="en-US" sz="4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952560" y="3243240"/>
            <a:ext cx="738036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Verdana"/>
              </a:rPr>
              <a:t>Robot Loc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F387-8D6D-4B1D-8C75-547F775E69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Linearization (2) 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A7F-BE03-45D5-A812-99EF71AF5A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Linearization (3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E83-2CD1-4B49-8F9C-E21FA743EF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dic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rec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120" y="5940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Linearization: First Order Taylor Series Expans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996840" y="2097000"/>
                <a:ext cx="54579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073160" y="4430880"/>
                <a:ext cx="360828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80D-24CA-4F5A-87F0-612D1FE44E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752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Algorithm 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1217160"/>
            <a:ext cx="8532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Extended_Kalman_fil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481040" y="2500200"/>
                <a:ext cx="17812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454040" y="2924280"/>
                <a:ext cx="2160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333440" y="4029120"/>
                <a:ext cx="3205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406520" y="4452840"/>
                <a:ext cx="2732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434960" y="4857840"/>
                <a:ext cx="2067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23080" y="5500800"/>
                <a:ext cx="19461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881520" y="5510160"/>
                <a:ext cx="14954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031080" y="2476440"/>
                <a:ext cx="2017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012000" y="2924280"/>
                <a:ext cx="21128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950080" y="4029120"/>
                <a:ext cx="30398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972040" y="4429080"/>
                <a:ext cx="2708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992920" y="4857840"/>
                <a:ext cx="20192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 flipH="1">
            <a:off x="4847760" y="2724120"/>
            <a:ext cx="89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847760" y="3191040"/>
            <a:ext cx="89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924080" y="4334040"/>
            <a:ext cx="89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933800" y="4714920"/>
            <a:ext cx="89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914720" y="5143680"/>
            <a:ext cx="89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27A-FE62-4121-9FEE-DF59072542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217440"/>
            <a:ext cx="8532720" cy="64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EKF_localizati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edi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165320" y="5796000"/>
                <a:ext cx="178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65320" y="6183360"/>
                <a:ext cx="2778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060560" y="934920"/>
                <a:ext cx="458928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165320" y="3068640"/>
                <a:ext cx="330840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'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'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'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'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θ</m:t>
                                        </m:r>
                                        <m:r>
                                          <m:t xml:space="preserve">'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θ</m:t>
                                        </m:r>
                                        <m:r>
                                          <m:t xml:space="preserve">'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19280" y="4811760"/>
                <a:ext cx="3157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058720" y="490860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tion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34680" y="1698480"/>
            <a:ext cx="45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cobian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.r.t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10920" y="581328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Predic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34680" y="6203880"/>
            <a:ext cx="38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Predicted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76800" y="371808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cobian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.r.t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EEC-1146-4D4D-92DF-D01D4B46DB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11280" y="217440"/>
            <a:ext cx="8532720" cy="64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EKF_localizati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rre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254240" y="5519880"/>
                <a:ext cx="2350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254240" y="5992920"/>
                <a:ext cx="20415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254240" y="2637000"/>
                <a:ext cx="4124160" cy="12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μ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ϕ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μ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μ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ϕ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μ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μ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θ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ϕ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μ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θ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254240" y="1424160"/>
                <a:ext cx="3611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m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x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acc>
                                                <m:accPr>
                                                  <m:chr m:val="¯"/>
                                                </m:accPr>
                                                <m:e>
                                                  <m:r>
                                                    <m:t xml:space="preserve">μ</m:t>
                                                  </m:r>
                                                </m:e>
                                              </m:acc>
                                            </m:e>
                                            <m:sub>
                                              <m:r>
                                                <m:t xml:space="preserve">t</m:t>
                                              </m:r>
                                              <m:r>
                                                <m:t xml:space="preserve">,</m:t>
                                              </m:r>
                                              <m:r>
                                                <m:t xml:space="preserve">x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m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y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acc>
                                                <m:accPr>
                                                  <m:chr m:val="¯"/>
                                                </m:accPr>
                                                <m:e>
                                                  <m:r>
                                                    <m:t xml:space="preserve">μ</m:t>
                                                  </m:r>
                                                </m:e>
                                              </m:acc>
                                            </m:e>
                                            <m:sub>
                                              <m:r>
                                                <m:t xml:space="preserve">t</m:t>
                                              </m:r>
                                              <m:r>
                                                <m:t xml:space="preserve">,</m:t>
                                              </m:r>
                                              <m:r>
                                                <m:t xml:space="preserve">y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tan</m:t>
                              </m:r>
                              <m:r>
                                <m:t xml:space="preserve">2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θ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254240" y="4465800"/>
                <a:ext cx="21621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254240" y="4998960"/>
                <a:ext cx="16351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254240" y="3828960"/>
                <a:ext cx="137304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4552560" y="1603440"/>
            <a:ext cx="50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dicted measurement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52920" y="4479840"/>
            <a:ext cx="51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d. measurement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11520" y="4994280"/>
            <a:ext cx="28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lman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04680" y="553716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Upda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28440" y="6041880"/>
            <a:ext cx="37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Updated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16320" y="2975040"/>
            <a:ext cx="45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cobian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.r.t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F5C-EC74-42B6-9BFE-A591820963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434160"/>
            <a:ext cx="86788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EKF Prediction Step (known correspondences)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79480" y="1100160"/>
            <a:ext cx="766296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F7D-F802-454B-AB48-918521CA3C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6880" y="434160"/>
            <a:ext cx="86788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EKF Correction Step (known correspondences)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336680" y="955800"/>
            <a:ext cx="6251400" cy="549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21A-B167-4ACD-B5A4-5C4DDB0BE4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6880" y="434160"/>
            <a:ext cx="86788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EKF Prediction Step (unknown correspondences)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95480" y="1247760"/>
            <a:ext cx="7394400" cy="456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227-5BB9-45D8-8998-0CB9D613D0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6880" y="434160"/>
            <a:ext cx="86788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EKF Correction Step (unknown correspondences)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14600" y="973080"/>
            <a:ext cx="5806800" cy="566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27C-1833-4AF0-BA16-BEB7B1839E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ocaliz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2894040"/>
            <a:ext cx="841032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p of the 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ce of sensor measur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e of the robot’s posi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Problem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ition track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obal loc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dnapped robot problem (recove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936720" y="1247760"/>
            <a:ext cx="7515000" cy="1410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sensory information to locate the robot in its environment is the most fundamental problem to providing a mobile robot with autonomous capabilities.”                 [Cox ’9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0A5-7EAD-4018-B22A-7C5B432D6C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Prediction Step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7960" y="1136520"/>
            <a:ext cx="3321000" cy="264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765680" y="1136520"/>
            <a:ext cx="3321000" cy="2648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07960" y="4060800"/>
            <a:ext cx="3321000" cy="264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765680" y="4060800"/>
            <a:ext cx="3321000" cy="26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A7CE-1A05-4938-9745-18B9D680A6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Observation Prediction Step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919760" y="1093680"/>
            <a:ext cx="3390840" cy="2671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17680" y="1093680"/>
            <a:ext cx="3350880" cy="2671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17680" y="4008600"/>
            <a:ext cx="3350880" cy="2671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4919760" y="4008600"/>
            <a:ext cx="3390840" cy="267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E49-B9E4-42BC-9138-A52AADB640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Correction Step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09760" y="1093680"/>
            <a:ext cx="3390840" cy="2671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09760" y="4008600"/>
            <a:ext cx="3390840" cy="2671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898880" y="3978360"/>
            <a:ext cx="3337200" cy="2660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889520" y="1136520"/>
            <a:ext cx="3336840" cy="266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BDF-03DC-4C0D-8DB9-B9DA536428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stimation Sequence (1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560" y="1741320"/>
            <a:ext cx="4410000" cy="34513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86400" y="1779480"/>
            <a:ext cx="4410000" cy="345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E50-1EFB-4807-B363-AD20EE2432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stimation Sequence (2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81360" y="1741320"/>
            <a:ext cx="4410360" cy="3451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8160" y="1731960"/>
            <a:ext cx="4410000" cy="345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248-4FD7-44A1-918C-02B7C7778B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43000" y="1401840"/>
            <a:ext cx="6372360" cy="49863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omparison to GroundTruth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43000" y="1401840"/>
            <a:ext cx="6372360" cy="498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BBE8-099A-487E-9AD5-DF29917850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Summa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1280" y="1436760"/>
            <a:ext cx="841032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Highly effici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Polynomial in measurement dimensionalit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state dimensionalit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(k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Verdana"/>
              </a:rPr>
              <a:t>2.376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+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Not optima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diver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nonlinearities are larg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s surprisingly well even when all assumptions are violated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202-5E63-41F5-B4A0-45A9E079B2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5940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inearization via Unscented Transform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19240" y="1301760"/>
            <a:ext cx="1820520" cy="2739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29280" y="4321080"/>
            <a:ext cx="782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89280" y="4340160"/>
            <a:ext cx="84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08E-AE36-4857-9FC0-6451F574EB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Sigma-Point Estimate (2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0440" y="1317600"/>
            <a:ext cx="1790640" cy="2695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29280" y="4321080"/>
            <a:ext cx="782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89280" y="4340160"/>
            <a:ext cx="84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F76-DAAE-42DA-B171-98E7C9A822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Sigma-Point Estimate (3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00160" y="1339920"/>
            <a:ext cx="1780920" cy="2682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29280" y="4321080"/>
            <a:ext cx="782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89280" y="4340160"/>
            <a:ext cx="84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D46-5300-447F-B244-827840A8D36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ocaliz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5960" y="1639800"/>
            <a:ext cx="8293320" cy="35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DE5-CB24-4577-ABC7-61D8DCE5CF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nscented Transform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9440" y="1349280"/>
                <a:ext cx="88041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±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Σ</m:t>
                                    </m:r>
                                  </m:e>
                                </m:rad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for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com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e k sendo iguais a parâmetros que determinam quã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stantes os sigma points estão espalhados em relação a médi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601280" y="998640"/>
            <a:ext cx="48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ma points                               Weigh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0120" y="4367160"/>
                <a:ext cx="1566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65200" y="5000760"/>
                <a:ext cx="340524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Σ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462040" y="4476600"/>
            <a:ext cx="60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ss sigma points through nonlinea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89560" y="5543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ver mean and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4F7-F727-43E9-B512-513D262556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11280" y="217440"/>
            <a:ext cx="8532720" cy="64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UKF_localiz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dic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504800" y="1068480"/>
                <a:ext cx="3157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82520" y="1876320"/>
                <a:ext cx="13734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33560" y="2638440"/>
                <a:ext cx="25286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071720" y="3108240"/>
                <a:ext cx="209700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062000" y="4098960"/>
                <a:ext cx="4846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γ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</m:sSubSup>
                          </m:e>
                        </m:rad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γ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</m:sSub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068480" y="4670280"/>
                <a:ext cx="2376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x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71720" y="5983200"/>
                <a:ext cx="38592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x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95480" y="5148360"/>
                <a:ext cx="1866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4858920" y="116532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tion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85560" y="198432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ement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21560" y="2527200"/>
            <a:ext cx="42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gmented state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11480" y="3336840"/>
            <a:ext cx="41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gmented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18120" y="4175280"/>
            <a:ext cx="41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igm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1080" y="4641840"/>
            <a:ext cx="45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diction of sigm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10760" y="533700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Predic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34520" y="6156360"/>
            <a:ext cx="38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Predicted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3AF9-9FE9-4B30-8CA1-5D0B6A2C10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1280" y="217440"/>
            <a:ext cx="8532720" cy="64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UKF_localiz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c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819000" y="1155600"/>
                <a:ext cx="1854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Ζ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</m:sSubSup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z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819000" y="1766880"/>
                <a:ext cx="18180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4515840" y="1165320"/>
            <a:ext cx="46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Measurement sigm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52560" y="1955880"/>
            <a:ext cx="50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dicted measurement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52920" y="2813040"/>
            <a:ext cx="51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d. measurement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09000" y="3736800"/>
            <a:ext cx="34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-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1520" y="4641840"/>
            <a:ext cx="28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lman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04680" y="533700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Upda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28440" y="6156360"/>
            <a:ext cx="37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Updated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19000" y="2652840"/>
                <a:ext cx="3711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19000" y="3548160"/>
                <a:ext cx="3940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χ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x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19000" y="4591080"/>
                <a:ext cx="18878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819000" y="5303880"/>
                <a:ext cx="2965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19000" y="6029280"/>
                <a:ext cx="25466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CA5-0255-430A-B833-8A34919D41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Prediction Step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03360" y="960480"/>
            <a:ext cx="3440160" cy="2763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994280" y="960480"/>
            <a:ext cx="3441600" cy="2743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03360" y="3921120"/>
            <a:ext cx="3441600" cy="2743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4994280" y="3921120"/>
            <a:ext cx="3440160" cy="276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5C3-D17B-4333-BA93-CD82259D66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Observation Prediction Step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933800" y="1019160"/>
            <a:ext cx="3438720" cy="2708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43040" y="1019160"/>
            <a:ext cx="3397320" cy="2708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743040" y="4000680"/>
            <a:ext cx="3397320" cy="2707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4933800" y="4000680"/>
            <a:ext cx="3438720" cy="270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D96-A712-460D-B8CF-8995A06CD5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Correction Step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210280" y="1000080"/>
            <a:ext cx="3397320" cy="2708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81200" y="1000080"/>
            <a:ext cx="3438360" cy="2708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5210280" y="3952800"/>
            <a:ext cx="3397320" cy="2708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81200" y="3952800"/>
            <a:ext cx="343836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914-A2D8-422C-BBC1-4BE52E095A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Correction Step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09760" y="1093680"/>
            <a:ext cx="3390840" cy="2671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09760" y="4008600"/>
            <a:ext cx="3390840" cy="2671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4898880" y="3978360"/>
            <a:ext cx="3337200" cy="26604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4889520" y="1136520"/>
            <a:ext cx="3336840" cy="266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3DE-DB99-4683-98AE-8D594398F7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stimation Sequenc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43760" y="2305080"/>
            <a:ext cx="2693880" cy="2108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81080" y="2305080"/>
            <a:ext cx="2693880" cy="2108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219480" y="2305080"/>
            <a:ext cx="2693880" cy="21081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350720" y="4835520"/>
            <a:ext cx="6875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                    PF                    UK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60C-405D-4791-B727-4309C94C4C3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010120" y="1620720"/>
            <a:ext cx="3921120" cy="3068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81080" y="1620720"/>
            <a:ext cx="3921120" cy="30686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stimation Sequenc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010120" y="1620720"/>
            <a:ext cx="3921120" cy="3068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181080" y="1620720"/>
            <a:ext cx="3921120" cy="30686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973520" y="4835520"/>
            <a:ext cx="5732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                                UK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A81-7F31-4E95-BD63-210DEC212DC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ediction Qualit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4653000" y="1898640"/>
            <a:ext cx="4325760" cy="3394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1889280"/>
            <a:ext cx="4325760" cy="33940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900080" y="5445000"/>
            <a:ext cx="563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                               UK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1DC-40FA-4982-AC2D-937B3E73266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ocaliz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681120" y="1722600"/>
            <a:ext cx="3122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on t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17800" y="1041480"/>
            <a:ext cx="4746600" cy="50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39E-4133-4C7B-8151-549D973854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Summa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1280" y="1436760"/>
            <a:ext cx="841032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Highly effici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Same complexity as EKF, with a constant factor slower in typical practical applica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Better linearization than EK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ccurate in first two terms of Taylor expansion (EKF only first ter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Derivative-fre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No Jacobians need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Still not optima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850-0631-45AE-B118-15768B42267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09480" y="1041480"/>
            <a:ext cx="8413920" cy="55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rras et al. 98]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er range-finder and 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precision (&lt;1cm 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Kalman Filter-based System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22120" y="3390840"/>
            <a:ext cx="8742600" cy="271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651720" y="6165720"/>
            <a:ext cx="20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Courtesy of Kai Arra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AA91-DCCB-4C64-9C0B-49AE0260D1E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Map-based Localiz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663560" y="1246320"/>
            <a:ext cx="6050160" cy="49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8AAC-5F3B-4758-BB94-9CA39BD3E69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4960" y="1542960"/>
            <a:ext cx="8123400" cy="432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895-9414-4BDE-9D93-617880A951A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101160"/>
            <a:ext cx="8458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Resampling Algorithm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111320" y="639720"/>
            <a:ext cx="6424560" cy="4327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987480" y="4923000"/>
            <a:ext cx="6848280" cy="19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FFA-C0AF-40D7-AF17-F9588ADD35B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38040" y="1430280"/>
            <a:ext cx="8516880" cy="36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BC1C-B342-4972-999B-C8934B432DB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157400" y="1662120"/>
            <a:ext cx="6708600" cy="1560240"/>
            <a:chOff x="1157400" y="1662120"/>
            <a:chExt cx="6708600" cy="1560240"/>
          </a:xfrm>
        </p:grpSpPr>
        <p:sp>
          <p:nvSpPr>
            <p:cNvPr id="303" name=""/>
            <p:cNvSpPr/>
            <p:nvPr/>
          </p:nvSpPr>
          <p:spPr>
            <a:xfrm>
              <a:off x="1157400" y="1662120"/>
              <a:ext cx="6708600" cy="15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Algorithm </a:t>
              </a:r>
              <a:r>
                <a:rPr b="1" lang="en-US" sz="2000" spc="-1" strike="noStrike">
                  <a:solidFill>
                    <a:srgbClr val="0033cc"/>
                  </a:solidFill>
                  <a:latin typeface="Verdana"/>
                </a:rPr>
                <a:t>sample_normal_distribu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retur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2971800" y="2324160"/>
              <a:ext cx="2260800" cy="80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/>
          <p:cNvSpPr/>
          <p:nvPr/>
        </p:nvSpPr>
        <p:spPr>
          <a:xfrm>
            <a:off x="1144440" y="4316400"/>
            <a:ext cx="749628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Algorithm 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sample_triangular_distribu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retur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867040" y="5025960"/>
            <a:ext cx="4222800" cy="66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D1D-A8C3-49E3-8470-8CF1145604E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871560" y="1282680"/>
            <a:ext cx="7601040" cy="50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B87-8931-40BE-B80A-B48007B0AF6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01480" y="1666800"/>
            <a:ext cx="7950240" cy="41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76C-D295-4D4D-AA9C-B5C75177942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063880" y="1039680"/>
            <a:ext cx="5456160" cy="581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9D1-49A7-475E-9C7E-269BB8D6F59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ocaliz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11760" y="895320"/>
            <a:ext cx="4462200" cy="5715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1120" y="1722600"/>
            <a:ext cx="3122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 loc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B48-55E5-4E6F-9BB8-7F15201454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88800" y="1457280"/>
            <a:ext cx="841716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267-9237-4CDE-A18B-EA92DC7133D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B07-1C5D-4AAD-ACAF-219B923C30F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C52-7295-4CA0-B9D5-AC02D47C0927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028-E694-46F8-B130-446AEC13E22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036-3C48-45FF-8B7B-D921C44894A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0B8-FB2B-4FA0-93A2-1937A75E163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85F-0A53-4D2A-8ED4-2ED6938658F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9EA-4814-4918-A80A-3B08EF86B35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E2F-6E1A-486C-BCB7-D949236C286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EA6-08F0-484D-B788-FE7132D68F4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andmark-based Localiz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95560" y="1798560"/>
            <a:ext cx="6629400" cy="357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78E-436A-4034-A656-19764E353C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FC3C-E823-4B63-B0FC-25B8E40AF61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650-E40F-47D6-97B8-2420B1C7CC3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924-C2DE-4ACF-BB84-1A358095A060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969-9D1C-4046-B348-9BF8768E50F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592-9FB7-4F53-A1FC-54EEBDFA7AF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8B1-ABFC-4972-BECD-992EFEE100BF}" type="slidenum">
              <a:t>65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351080" y="1308240"/>
            <a:ext cx="6672240" cy="539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3F7-0E43-432D-8DC7-21E28E18CD1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28760" y="946080"/>
            <a:ext cx="4491000" cy="591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274-0001-48CF-A244-5FAB5693808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25920" y="1098360"/>
            <a:ext cx="84250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Multi-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hypothesi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Track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816280" y="2054160"/>
            <a:ext cx="6280200" cy="11988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2816280" y="5305320"/>
            <a:ext cx="6280200" cy="11988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2816280" y="58680"/>
            <a:ext cx="6280200" cy="19353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2828880" y="3265560"/>
            <a:ext cx="6315120" cy="20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A25-CA77-4175-BD94-A3EC8E834D4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09480" y="1041480"/>
            <a:ext cx="8413920" cy="55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ief is represented by multiple 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hypothesis is tracked by a Kalman fil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Additional proble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Data associ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Which observation corresponds to which hypo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Hypothesis manage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When to add / delete hypothe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uge body of literature on target tracking, motion correspondence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ocalization With MH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BC3-2D97-4AED-99F6-365EF19D226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Linearity Assumption Revisite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00400" y="1317600"/>
            <a:ext cx="456228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9D34-4EE8-4F26-A999-D8C40775A0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MHT: Implemented System (2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375080" y="1098720"/>
            <a:ext cx="4633920" cy="51084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0760" y="2095560"/>
            <a:ext cx="4229280" cy="31496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70640" y="6546960"/>
            <a:ext cx="34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tesy of P. Jensfelt and S. Kriste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8F4-A20C-4BE6-ACBD-8D1C6E6C74B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6880" y="32400"/>
            <a:ext cx="867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MHT: Implemented System (3)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xample ru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03040" y="1436760"/>
            <a:ext cx="4631040" cy="43894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959360" y="2470320"/>
            <a:ext cx="4057560" cy="3300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070280" y="583560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p and traj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46440" y="111132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# 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72720" y="5835600"/>
            <a:ext cx="32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#hypotheses vs.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84040" y="1746360"/>
            <a:ext cx="106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(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bes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447880" y="1587600"/>
            <a:ext cx="1359000" cy="1676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35760" y="2260440"/>
            <a:ext cx="508320" cy="1435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0640" y="6546960"/>
            <a:ext cx="34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tesy of P. Jensfelt and S. Kriste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739-DFFE-4B01-B187-34DA736A478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Non-linear Func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E0B-92B0-4D29-B2C8-88987FFAFE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Linearization (1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E4A-4260-4634-8F48-3C0DBB726C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3:33:42Z</dcterms:created>
  <dc:creator/>
  <dc:description/>
  <dc:language>en-US</dc:language>
  <cp:lastModifiedBy>-</cp:lastModifiedBy>
  <dcterms:modified xsi:type="dcterms:W3CDTF">2011-09-01T22:05:52Z</dcterms:modified>
  <cp:revision>79</cp:revision>
  <dc:subject/>
  <dc:title>Introduction to  Mobile Robotics</dc:title>
</cp:coreProperties>
</file>